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BD5-ECAF-4D5A-83FB-6FB33630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560-E8FC-4EF0-80CB-EB1E04DD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7F5-7F39-4778-86C2-64D1B716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AD2-D65C-47BC-9AD1-2BA67BA8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D590-DF5B-4EEB-B6BB-A38B9CE8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BF0-312C-4ACB-8F1F-F8AE809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008-3F90-495A-9D41-9F9105A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F05-F2BE-4574-A197-A3DC5247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7EF5-B778-43C9-BAF1-C170CC13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DF70-0891-48B4-B159-85772A10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4EA0-E73D-4321-A389-F1FC1AD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905-0CDB-4987-B853-58E490FB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793-7677-4B79-81E8-03376222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53C-195D-4654-B76B-64DB202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8B1-3D13-42A3-B0C0-E4DC8DA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9EEC-0E4E-4514-ABA8-BBEA192E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23FC-1E7E-43B3-9716-CE8D5FD1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382-D7BC-4471-BC46-DF2196B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A0F-D1A1-4238-A394-BFE0BE5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24A-79B0-4851-BFF6-35AA907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87D-DD82-46E6-92C1-7865DE29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702-A567-4F1B-8FC6-2C10D55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22B-0532-4683-B023-72B014A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8CF-E7C1-4073-BFCF-5B3F450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002-9034-4A67-932E-C32030EB90D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4A2-D434-4127-959B-B7D19929BAA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630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23619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Homeland Security Administrative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stic Nuclear Detection Off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National Protection an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Science and Techn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Poli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Health Affai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Intelligence and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Operations Coord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6019920" y="6492960"/>
            <a:ext cx="309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63080" cy="220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Homeland Security Administrative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Law Enforcement Training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stic Nuclear Detection Off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portation Security Administ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ted States Customs and Border Prot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ted States Citizenship and Immigration Ser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ted States Immigration and Customs Enforc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ted States Coast Gu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Emergency Management Ag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ited States Secret Serv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5718240" y="6492960"/>
            <a:ext cx="34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0" y="-103320"/>
            <a:ext cx="9174240" cy="251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1712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Agriculture (USD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Defense (DOD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Energy (DO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Health and Human Services (HH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the Interi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the Treasu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vironmental Protection Agency (EP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315360" cy="219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Agriculture (USD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the Nation’s Food Supply and Agricultural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Defense (DOD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Defense Critical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315360" cy="2193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Energy (DO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Power Plants, Weapons Facilities, Oil &amp; Gas, and Research Laborator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Health and Human Services (HH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the Nation’s Healthcare and Public Health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315360" cy="2193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the Interi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National Monuments and Public Lan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the Treasu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the Nation’s Financial and Banking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315360" cy="219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Environmental Protection Agency (EP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uring the Nation’s Drinking Water and Water Treatment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Waging War in the Era of the New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r in the Shadow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t Conflict: The Deployment of Military Ass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46756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52280" y="1980720"/>
            <a:ext cx="88394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Agencies and Mission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Homeland Security at the Federal Level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505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88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ual Background: The Bureaucratic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Federal Bureaucracy Prior to 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reaucratic Transformation After 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20968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nceptual Background: The Bureaucratic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tionality and the Role of Bureaucr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fficiency and Bureaucr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1981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286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Federal Bureaucracy Prior to 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Law Enforcement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Service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The Problem of Interagency Disconne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198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Bureaucratic Transformation After September 11,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tigating Interagency Disconnect: The Case of Intelligence Transform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Counterterrorism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New Culture: The Dawn of Homeland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171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fice of the Secret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Homeland Security Administrative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63080" cy="220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1828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Office of the Secret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vacy Off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for Civil Rights and Civil Liber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the Inspector Gene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itizenship and Immigration Services Ombuds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Legislative Affai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the General Couns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Public Affai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the Executive Secretari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litary Advisor’s Off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Intergovernmental Affai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5867280" y="649296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63080" cy="220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-30492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Homeland Security Administrative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National Protection an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Science and Techn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rectorate for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Poli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Health Affai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Intelligence and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Operations Coord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Law Enforcement Training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5486400" y="6480000"/>
            <a:ext cx="3657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4:23Z</dcterms:modified>
  <cp:revision>128</cp:revision>
  <dc:subject/>
  <dc:title>Slide 1</dc:title>
</cp:coreProperties>
</file>